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996-D5B1-4D3B-AF0F-129CF70A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FB-FCA8-430E-BFE4-BF1F93AF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DE0-F39C-495C-9454-1203E6DB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2A0-2931-4B36-9681-67A92CD7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001-85BD-42F2-B602-D305461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8DB-3649-47A0-AB07-3F252FB3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45D-60AB-4A24-AE70-AA07667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B3B-50AA-4763-912A-73EFEE4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683-EE6C-4CA2-BFE5-0194C30B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DEF-FC08-47DE-8F0A-83FA619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2C4-0159-4336-9C82-8D3D419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DB1-559C-4AF1-99CE-268687C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A03-E48D-49E6-A5E3-96DC6399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florida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flags/florida/floridaflag.sht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enchantedlearning.com/usa/states/florida/" TargetMode="External"/><Relationship Id="rId6" Type="http://schemas.openxmlformats.org/officeDocument/2006/relationships/hyperlink" Target="http://www.enchantedlearning.com/usa/states/florida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Mockingbirdprintout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jewelrymall.com/cgibin/xlinker.cgi?loc=123&amp;lf=123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jewelrymall.com/stones/moonstone.html#pictures" TargetMode="External"/><Relationship Id="rId6" Type="http://schemas.openxmlformats.org/officeDocument/2006/relationships/hyperlink" Target="http://www.enchantedlearning.com/usa/states/florida/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50states.com/flower/florida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4648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769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1066680"/>
            <a:ext cx="48769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ff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orida</a:t>
            </a:r>
            <a:endParaRPr b="0" lang="en-US" sz="1800" spc="1" strike="noStrike">
              <a:ln w="25560">
                <a:solidFill>
                  <a:srgbClr val="9933ff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Capital: Tallahasse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Population: 15,982,37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Entered the Union: March 3</a:t>
            </a:r>
            <a:r>
              <a:rPr b="0" lang="en-US" sz="2700" spc="-1" strike="noStrike" baseline="30000">
                <a:solidFill>
                  <a:srgbClr val="00aad2"/>
                </a:solidFill>
                <a:latin typeface="Bauhaus 93"/>
              </a:rPr>
              <a:t>rd</a:t>
            </a: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, 18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Number entered: 27</a:t>
            </a:r>
            <a:r>
              <a:rPr b="0" lang="en-US" sz="2700" spc="-1" strike="noStrike" baseline="30000">
                <a:solidFill>
                  <a:srgbClr val="00aad2"/>
                </a:solidFill>
                <a:latin typeface="Bauhaus 93"/>
              </a:rPr>
              <a:t>th</a:t>
            </a: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Motto: In God We Tru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Nickname: Sunshine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Flower: Orange Bloss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Bird: Mockingbi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Song: Swanee Riv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aad2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aad2"/>
                </a:solidFill>
                <a:latin typeface="Bauhaus 93"/>
              </a:rPr>
              <a:t>Meaning behind name: Spanish-meaning, flowery, but also suggesting Easter, when the name was gi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empus Sans ITC"/>
              </a:rPr>
              <a:t>Interesting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Many tourist attractions- Disney World, Epcot, Universal 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Various outdoor activities- Biking, boating, swimming, diving, picni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Fort Lauderdale is known as Venice of America because the city has 185 miles of local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Gem-Moon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0e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e233"/>
                </a:solidFill>
                <a:latin typeface="Arial"/>
              </a:rPr>
              <a:t>Cape Canaveral is America’s launch pad for space f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2652840" cy="24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038480"/>
            <a:ext cx="2743200" cy="183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205740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4191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140796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429000"/>
            <a:ext cx="166212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342900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ston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onstone Jewelr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jewelrymall.com/stones/moonstone.html#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8380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flori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19920" y="1349280"/>
            <a:ext cx="2361960" cy="180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3809880"/>
            <a:ext cx="2133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 State Flow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ange Blosso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2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50states.com/flower/florid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1752480"/>
            <a:ext cx="472428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181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kula Springs Sate Par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t1/0003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© 2000 WriteLine. Orange Blossom"/>
          <p:cNvPicPr/>
          <p:nvPr/>
        </p:nvPicPr>
        <p:blipFill>
          <a:blip r:embed="rId2"/>
          <a:stretch/>
        </p:blipFill>
        <p:spPr>
          <a:xfrm>
            <a:off x="5791320" y="4191120"/>
            <a:ext cx="2819160" cy="220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7280" y="2743200"/>
            <a:ext cx="2819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© 1998 WriteLine. Mockingbird"/>
          <p:cNvPicPr/>
          <p:nvPr/>
        </p:nvPicPr>
        <p:blipFill>
          <a:blip r:embed="rId3"/>
          <a:stretch/>
        </p:blipFill>
        <p:spPr>
          <a:xfrm>
            <a:off x="6095880" y="304920"/>
            <a:ext cx="2117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3808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ass-bottom boat glides across glassine waters where the aqua shore meets the indigo depths of Florida's deepest freshwater sp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380880" y="18288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380520" y="510444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and New State Capitals, Tallahasse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t1/00032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© 2000 WriteLine. Sabal Palm"/>
          <p:cNvPicPr/>
          <p:nvPr/>
        </p:nvPicPr>
        <p:blipFill>
          <a:blip r:embed="rId2"/>
          <a:stretch/>
        </p:blipFill>
        <p:spPr>
          <a:xfrm>
            <a:off x="6095880" y="457200"/>
            <a:ext cx="206244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3657600"/>
            <a:ext cx="2743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3-11, 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57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's new Capitol, a 1977 skyscraper, towers behind the old in gleaming white moder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17:28Z</dcterms:created>
  <dc:creator>install</dc:creator>
  <dc:description/>
  <dc:language>en-US</dc:language>
  <cp:lastModifiedBy>install</cp:lastModifiedBy>
  <dcterms:modified xsi:type="dcterms:W3CDTF">2011-03-16T15:55:32Z</dcterms:modified>
  <cp:revision>9</cp:revision>
  <dc:subject/>
  <dc:title>Slide 1</dc:title>
</cp:coreProperties>
</file>